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942B-E4ED-4506-BD2E-C3C9CF8D4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5B6-62FE-4499-BD88-69B72861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214-AA42-47BA-9DDB-E589E7F2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BF2-8855-4D02-BF18-B15A54B0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16F-AC59-4235-8578-385797D7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1E5C-27C8-4FE9-9AB7-AFB68F1D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8521-BD0A-4BB1-8700-08D8B522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5429-63D8-4BF7-AB88-241D776B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DDF4-B1B1-415D-99AE-F6A499FD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942D-EB5C-49AB-993C-4B84D6A7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5324-B253-4F09-8C67-49F186BC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D631-EB7B-44E8-BEFC-83DF101E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6F2-4AD6-4386-9C9C-9DBF2B6E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3723-47EB-43D8-AF6A-5778B1A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8212-42D1-4EBC-8665-A0723F27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FB98-BB87-40AD-BA91-526770F3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9DBD-5460-475B-9351-E9A4D1F2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8818-0D3A-417B-AD99-6F4B5A54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074-A3EA-4614-B184-D85D3603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07B-1DAF-4B4B-B1A0-74FEB56D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A13-6005-4D73-B947-4E0A36FC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536-FC39-4804-BC04-8FEC9A4B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1B5-920C-4070-92C0-2E8BDF72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386-79C1-4EED-9F57-EF2AD46D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912-0FDA-44B1-808D-BFADB610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20D7-4B81-4004-8AB6-B9BC03D0A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399D-BA31-49D1-91DE-965554E29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-31680" y="738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0960" y="7535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73240" y="768816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yg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 flipV="1">
            <a:off x="4495680" y="3580920"/>
            <a:ext cx="38124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5" descr="algae69"/>
          <p:cNvPicPr/>
          <p:nvPr/>
        </p:nvPicPr>
        <p:blipFill>
          <a:blip r:embed="rId1"/>
          <a:stretch/>
        </p:blipFill>
        <p:spPr>
          <a:xfrm>
            <a:off x="27432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9907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09680" y="251460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72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7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Volvox2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49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9718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26" descr="yeast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530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27"/>
          <p:cNvSpPr/>
          <p:nvPr/>
        </p:nvSpPr>
        <p:spPr>
          <a:xfrm>
            <a:off x="266688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xt group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ses and F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48840" y="6432480"/>
            <a:ext cx="4039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ee powerpoints at </a:t>
            </a:r>
            <a:r>
              <a:rPr b="0" lang="en-GB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53341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4" descr="marcantl1"/>
          <p:cNvPicPr/>
          <p:nvPr/>
        </p:nvPicPr>
        <p:blipFill>
          <a:blip r:embed="rId1"/>
          <a:stretch/>
        </p:blipFill>
        <p:spPr>
          <a:xfrm>
            <a:off x="1587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54864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4" descr="marcarhl2"/>
          <p:cNvPicPr/>
          <p:nvPr/>
        </p:nvPicPr>
        <p:blipFill>
          <a:blip r:embed="rId1"/>
          <a:stretch/>
        </p:blipFill>
        <p:spPr>
          <a:xfrm>
            <a:off x="228600" y="0"/>
            <a:ext cx="497376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8" name="Picture 3" descr="marcspl3"/>
          <p:cNvPicPr/>
          <p:nvPr/>
        </p:nvPicPr>
        <p:blipFill>
          <a:blip r:embed="rId1"/>
          <a:stretch/>
        </p:blipFill>
        <p:spPr>
          <a:xfrm>
            <a:off x="2666880" y="1996920"/>
            <a:ext cx="3657600" cy="2748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2004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00240" y="2971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rw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X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mo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5" descr="liverwort6812"/>
          <p:cNvPicPr/>
          <p:nvPr/>
        </p:nvPicPr>
        <p:blipFill>
          <a:blip r:embed="rId1"/>
          <a:stretch/>
        </p:blipFill>
        <p:spPr>
          <a:xfrm>
            <a:off x="912960" y="2454120"/>
            <a:ext cx="397512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4" name="Picture 3" descr="lycopodiumstrobilus"/>
          <p:cNvPicPr/>
          <p:nvPr/>
        </p:nvPicPr>
        <p:blipFill>
          <a:blip r:embed="rId1"/>
          <a:stretch/>
        </p:blipFill>
        <p:spPr>
          <a:xfrm>
            <a:off x="2514600" y="190512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2895480" y="50292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BRYI001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5" descr="BRYI003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2971440" y="3276720"/>
            <a:ext cx="20574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7"/>
          <p:cNvSpPr/>
          <p:nvPr/>
        </p:nvSpPr>
        <p:spPr>
          <a:xfrm flipH="1">
            <a:off x="3809520" y="380988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256000" y="2099880"/>
            <a:ext cx="376380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rophyte attached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BRYI004B"/>
          <p:cNvPicPr/>
          <p:nvPr/>
        </p:nvPicPr>
        <p:blipFill>
          <a:blip r:embed="rId1"/>
          <a:stretch/>
        </p:blipFill>
        <p:spPr>
          <a:xfrm>
            <a:off x="1494000" y="1905120"/>
            <a:ext cx="2811240" cy="419076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 flipH="1">
            <a:off x="2666880" y="4038480"/>
            <a:ext cx="243864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H="1" flipV="1">
            <a:off x="2437920" y="2819160"/>
            <a:ext cx="266724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0" name="Picture 3" descr="horsetailstrobil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4290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41560" y="1916280"/>
            <a:ext cx="19875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j0145145"/>
          <p:cNvPicPr/>
          <p:nvPr/>
        </p:nvPicPr>
        <p:blipFill>
          <a:blip r:embed="rId1"/>
          <a:stretch/>
        </p:blipFill>
        <p:spPr>
          <a:xfrm>
            <a:off x="912960" y="2914560"/>
            <a:ext cx="3975120" cy="2560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PH02939J"/>
          <p:cNvPicPr/>
          <p:nvPr/>
        </p:nvPicPr>
        <p:blipFill>
          <a:blip r:embed="rId2"/>
          <a:stretch/>
        </p:blipFill>
        <p:spPr>
          <a:xfrm>
            <a:off x="5486400" y="2209680"/>
            <a:ext cx="27432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666880" y="1523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4" descr="sporangia on fern"/>
          <p:cNvPicPr/>
          <p:nvPr/>
        </p:nvPicPr>
        <p:blipFill>
          <a:blip r:embed="rId1"/>
          <a:stretch/>
        </p:blipFill>
        <p:spPr>
          <a:xfrm>
            <a:off x="5334120" y="2743200"/>
            <a:ext cx="3349440" cy="2286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sporangia, fern2"/>
          <p:cNvPicPr/>
          <p:nvPr/>
        </p:nvPicPr>
        <p:blipFill>
          <a:blip r:embed="rId2"/>
          <a:stretch/>
        </p:blipFill>
        <p:spPr>
          <a:xfrm>
            <a:off x="609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1" name="Picture 3" descr="fernspore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526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4" name="Picture 3" descr="ferngameto"/>
          <p:cNvPicPr/>
          <p:nvPr/>
        </p:nvPicPr>
        <p:blipFill>
          <a:blip r:embed="rId1"/>
          <a:stretch/>
        </p:blipFill>
        <p:spPr>
          <a:xfrm>
            <a:off x="2895480" y="3581280"/>
            <a:ext cx="33721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2895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638320" y="4267080"/>
            <a:ext cx="12193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952880" y="2209680"/>
            <a:ext cx="0" cy="2057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053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34" name="Line 2054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43434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of one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053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077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41" name="Line 3078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079"/>
          <p:cNvSpPr/>
          <p:nvPr/>
        </p:nvSpPr>
        <p:spPr>
          <a:xfrm>
            <a:off x="48006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6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1029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053" descr="chara"/>
          <p:cNvPicPr/>
          <p:nvPr/>
        </p:nvPicPr>
        <p:blipFill>
          <a:blip r:embed="rId1"/>
          <a:stretch/>
        </p:blipFill>
        <p:spPr>
          <a:xfrm>
            <a:off x="762120" y="1523880"/>
            <a:ext cx="49496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09:57Z</dcterms:modified>
  <cp:revision>61</cp:revision>
  <dc:subject/>
  <dc:title>BOTANY plant tissues</dc:title>
</cp:coreProperties>
</file>